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BF2-B76A-487E-8BAE-7C82A60C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0E8-4A9A-4F89-AF24-39143B9A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B3B-EB5A-4500-87C7-E54027DF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32E-6C11-4DD6-BBE0-CC70B690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BC3-EA67-43A9-87E2-AFE4B5AE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DE7-690A-4D28-8391-A07D7176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783-B8EA-4E5E-A1C9-66E31DCD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933-16F9-42E4-A7C4-AB1CA6A0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ABF-3AC1-419A-9676-485D476F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C3D-512B-44CF-BCEB-39911F07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83F-0235-4B0F-82A6-687A3E43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3CA-EA57-4466-869D-420BA166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1E507-448B-4299-AE44-937B840016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  <a:ea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  <a:ea typeface="等线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-25560"/>
            <a:ext cx="1219212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  <a:ea typeface="等线 Light"/>
            </a:endParaRPr>
          </a:p>
        </p:txBody>
      </p:sp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Think</dc:creator>
  <dc:description/>
  <dc:language>en-US</dc:language>
  <cp:lastModifiedBy>my</cp:lastModifiedBy>
  <dcterms:modified xsi:type="dcterms:W3CDTF">2023-03-14T06:40:5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